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208-DCD3-450B-8850-8A85DC1C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8DE-FA00-4DD1-8DFB-459BCAF2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E74-3CF1-4BF6-A196-C4316021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B79-9F59-4646-91EC-9B09FA35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7B8-2F3B-4862-A818-41FF6745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111-0562-4766-A085-447C9858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9D5-80EB-4085-A3E0-23FBDEDB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43B-D84C-47AF-B50A-6CF10B91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7EA-1001-4069-B2D1-63B0C129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091-21CF-4508-9B4E-A0482C9E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F1D-F714-4FA4-BCD1-676C7FC9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9EB-04A7-4E13-9957-4F3099A0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D59C-F2B3-46B8-BD83-46D24CD38BF9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6E4D-9F3E-41AD-9A5F-04F854A420D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5" descr=""/>
          <p:cNvPicPr/>
          <p:nvPr/>
        </p:nvPicPr>
        <p:blipFill>
          <a:blip r:embed="rId1"/>
          <a:stretch/>
        </p:blipFill>
        <p:spPr>
          <a:xfrm>
            <a:off x="154080" y="3033720"/>
            <a:ext cx="8648640" cy="890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单元 酸和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2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3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4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6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678680" y="2208240"/>
            <a:ext cx="623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通过实验步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，可以验证氢氧化钙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哪些性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179720" y="112536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题交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651040" y="3933720"/>
            <a:ext cx="70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氢氧化钙微溶于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258920" y="4595760"/>
            <a:ext cx="770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氢氧化钙溶液显碱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146040" y="5229360"/>
            <a:ext cx="70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氢氧化钙溶液与盐酸反应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593520" y="2235240"/>
            <a:ext cx="203112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实验目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对酸和碱的主要性质的认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实验解释生活中的一些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827520" y="1557360"/>
            <a:ext cx="193464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用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管、药匙、蒸发皿、玻璃棒、酒精灯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铁架台（带铁圈）、坩埚钳、胶头滴管、火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盐酸、稀硫酸、稀氢氧化钠溶液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氢氧化钙溶液、硫酸铜溶液、氢氧化钙粉末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石蕊溶液、酚酞溶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纸、生锈的铁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421080" y="2421000"/>
          <a:ext cx="5256360" cy="2927160"/>
        </p:xfrm>
        <a:graphic>
          <a:graphicData uri="http://schemas.openxmlformats.org/drawingml/2006/table">
            <a:tbl>
              <a:tblPr/>
              <a:tblGrid>
                <a:gridCol w="1943280"/>
                <a:gridCol w="1657080"/>
                <a:gridCol w="16560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石蕊溶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酚酞溶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3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稀盐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微软雅黑"/>
                        </a:rPr>
                        <a:t>变成红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不变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3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稀硫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微软雅黑"/>
                        </a:rPr>
                        <a:t>变成红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不变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3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氢氧化钙溶液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变成蓝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宋体"/>
                          <a:ea typeface="微软雅黑"/>
                        </a:rPr>
                        <a:t>变成红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3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氢氧化钠  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3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溶液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33"/>
          <p:cNvSpPr/>
          <p:nvPr/>
        </p:nvSpPr>
        <p:spPr>
          <a:xfrm>
            <a:off x="5648400" y="458136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变成蓝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7371720" y="4556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变成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84360" y="1917720"/>
            <a:ext cx="2668320" cy="1963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0" t="2719" r="0" b="0"/>
          <a:stretch/>
        </p:blipFill>
        <p:spPr>
          <a:xfrm>
            <a:off x="684360" y="4294080"/>
            <a:ext cx="2646360" cy="2051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96720" y="6397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实验步骤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参考下图进行实验，比较酸和碱与指示剂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987640" y="2060640"/>
            <a:ext cx="3544920" cy="2043720"/>
          </a:xfrm>
          <a:prstGeom prst="rect">
            <a:avLst/>
          </a:prstGeom>
          <a:noFill/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酸和碱有腐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，实验时应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1"/>
          <p:cNvPicPr/>
          <p:nvPr/>
        </p:nvPicPr>
        <p:blipFill>
          <a:blip r:embed="rId1"/>
          <a:stretch/>
        </p:blipFill>
        <p:spPr>
          <a:xfrm>
            <a:off x="2643120" y="1844640"/>
            <a:ext cx="7509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096920" y="9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971640" y="765000"/>
            <a:ext cx="2592360" cy="561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两个生锈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铁钉放入两支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管中，然后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m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稀盐酸，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察现象。当观察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铁钉表面的锈去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得光亮时，将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一支试管中的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钉取出，洗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继续观察另一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管中的现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一段时间将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钉取出，洗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较两支铁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997440" y="765000"/>
            <a:ext cx="2447640" cy="5616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锈钉表面的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锈逐渐消失变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光亮，溶液变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黄色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铁钉变得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亮后，可观察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铁钉表面出现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732720" y="1628640"/>
            <a:ext cx="1584360" cy="2592360"/>
          </a:xfrm>
          <a:prstGeom prst="rect">
            <a:avLst/>
          </a:prstGeom>
          <a:noFill/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想一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将铁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放入试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时应如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操作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260360" y="838080"/>
            <a:ext cx="3024360" cy="3095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在试管中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入约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m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硫酸铜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液，然后滴入几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氢氧化钠溶液，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察现象。然后再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试管中加入稀盐酸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观察现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260360" y="4149720"/>
            <a:ext cx="3024360" cy="2089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出现蓝色絮状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淀，溶液变成无色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蓝色絮状沉淀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解，溶液呈蓝绿色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QQ截图20140124133548"/>
          <p:cNvPicPr/>
          <p:nvPr/>
        </p:nvPicPr>
        <p:blipFill>
          <a:blip r:embed="rId1"/>
          <a:stretch/>
        </p:blipFill>
        <p:spPr>
          <a:xfrm>
            <a:off x="4933800" y="2494080"/>
            <a:ext cx="32338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12720" y="838080"/>
            <a:ext cx="3097440" cy="5472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在试管中加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约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m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氢氧化钠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液，滴几滴酚酞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液。然后边用滴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慢慢滴入稀盐酸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边不断震荡试管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至溶液颜色恰好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为无色为止。取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溶液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m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置于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蒸发皿中加热，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液体蒸干，观察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氢氧化钠与盐酸的中和反应.wmv" descr=""/>
          <p:cNvPicPr/>
          <p:nvPr/>
        </p:nvPicPr>
        <p:blipFill>
          <a:blip r:embed="rId1"/>
          <a:stretch/>
        </p:blipFill>
        <p:spPr>
          <a:xfrm>
            <a:off x="4573440" y="1141560"/>
            <a:ext cx="3800520" cy="3039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QQ截图20140124171923"/>
          <p:cNvPicPr/>
          <p:nvPr/>
        </p:nvPicPr>
        <p:blipFill>
          <a:blip r:embed="rId2"/>
          <a:stretch/>
        </p:blipFill>
        <p:spPr>
          <a:xfrm>
            <a:off x="4581360" y="1155600"/>
            <a:ext cx="3787920" cy="30304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4054320" y="4799160"/>
            <a:ext cx="467856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滴酚酞溶液后，溶液呈红色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068720" y="5662440"/>
            <a:ext cx="38052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玻璃片出现白色固体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042920" y="982800"/>
            <a:ext cx="7416720" cy="2519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向两支试管中各加入相同量的氢氧化钙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末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用药匙的柄把一端挑一点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然后各加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m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水，振荡；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再各滴入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滴酚酞溶液，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察现象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继续向其中一支试管中加入约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mL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盐酸，振荡；比较两支试管中的现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388320" y="4006800"/>
            <a:ext cx="70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氢氧化钙不易溶于水，即微溶于水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826920" y="4668840"/>
            <a:ext cx="770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无色酚酞溶液显示红色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553920" y="5302080"/>
            <a:ext cx="70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氢氧化钙粉末逐渐溶解形成无色溶液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32Z</dcterms:created>
  <dc:creator/>
  <dc:description/>
  <dc:language>en-US</dc:language>
  <cp:lastModifiedBy>Administrator</cp:lastModifiedBy>
  <dcterms:modified xsi:type="dcterms:W3CDTF">2019-01-08T00:44:02Z</dcterms:modified>
  <cp:revision>3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